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3A3-46F8-4D0F-80F8-B350066B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23CB-ADA3-47AB-A98A-B7D12F2A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AC7-970F-4051-87CD-726D4FD0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BB6-FEF6-4C92-BCB3-7584B362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E6D0D-8CD8-4C8A-8F6A-EFAC918D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9E68C-741A-4FCD-BD6C-20AA230F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1BD08-167B-4CFA-9914-C60924EC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DE129-D418-4F73-B5CB-34AB6305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A75D7-DF6F-4164-B115-64343791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C4436-E45B-4BA0-8E8E-E99189E8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666BA-D2AD-454A-887B-98471FF6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AB48-46AA-4CBC-AA66-C0C7E8E8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EDB8D-D035-47B8-BA5D-C02328E0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C7868-5481-4082-95BD-CC681E43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A1DEE-20AD-46B5-A04E-6069859D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DFC81-5A27-403E-9654-590BB6C4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C853C-7AB4-4C73-9A7A-E7469389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D40AF-19F5-4B1C-AF53-779BF1F8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497B6-A700-4820-96E9-03D364A9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8E1EF-C4AE-4C6F-A1F3-68724B02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13F9D-0E97-4529-B669-B6E32408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38E51-2255-4A33-B0EC-09E1C62E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0457-50E4-4D72-ACAB-564F974D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6F896-0A28-4E4D-9099-D2905E26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9DA2E-8D5C-4B33-9AF1-C1FAAEAF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E573A-523A-46D5-ADAF-F47B2594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3462F-15C4-4F4B-A784-8A52BDBA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86EC7-84D0-4FA2-AC8F-84FA3E68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77BC4-583C-476F-BD0C-EF0E57A4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5F9CF-CEEE-4C01-BB94-D41E8120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5C7CBF-8200-451A-9C86-33138949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813245-5592-4F37-AEBA-07255BB4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58EFA1-EA23-4643-8C7F-01FF197F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866-5D39-406A-B19E-9B0EC9BB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4D8600-2916-40B5-9317-1792E373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45CCA7-10C8-4E44-81BE-E905CE1A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F61A78-8220-4C35-A4E9-970728F2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C15BEE-28A3-49F1-85AC-640C2626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4B48F1-B7BE-45E7-9450-7585C585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96669B-D36E-42CD-862E-49DEA8E6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539F4C-FC42-4AA1-9C1D-82CB5CC1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5E7B99-3958-41BF-BDAE-86DD7D77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26C85D-20C5-47FE-AE0F-B9954529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6D3-B4CF-4BF0-9F0E-51C087B6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BC8-2C91-4E32-AAB4-4B378F16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10E-1340-49F1-9AF6-33F96245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9500-07FF-4545-BB3E-A1D08622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794-7999-43FB-9816-55D8D6DA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CE7B-5E63-491E-9D33-481E653B248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6841-167A-4976-A131-91477BE7A03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A61C-2F00-4F29-A53F-272379193CA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05B0-57BF-4DF6-8C5D-718427E0235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удовлетворенность условиями деятель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служебной эт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трудового законодатель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граниченность рессур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личия в целях, ценностях, воспитан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озависимость зада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огласитель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нападения (четкая аргументаци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разубежд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отсроч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подробного анализа (если сторона готовы к сотрудничеству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ктивного соучастия (если факт соучастия важнее чем результат)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ерсонализации (с наиболее конфликтными личностям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менение конфликтогено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ямое негатив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нисходитель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нторск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честность, неискреннос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ушения этических и этикетных нор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рессивное поведе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Конфликтная ситуация + инциден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С – объекты и субъекты конфликта + разногласия в позициях, целях, интересов и т.д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рансакц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единица взаимодействия партнеров по общению, сопровождающаяся заданием их позиц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Основные позици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дитель – требует, оценивает, осуждает, одобряет, руководит, учит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зрослый – работает с информацией, анализирует, рассуждает, аргументиру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бенок (Дитя) – проявляет чувства (обиды, вины..), шалит, своенравен, извиняется в ответ на замечания, задает вопросы : «почему я?», «За что меня наказали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горитм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48320" y="1600200"/>
          <a:ext cx="4038480" cy="19000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4076640"/>
          <a:ext cx="4038480" cy="204948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Line 57"/>
          <p:cNvSpPr/>
          <p:nvPr/>
        </p:nvSpPr>
        <p:spPr>
          <a:xfrm flipV="1">
            <a:off x="5003640" y="2349360"/>
            <a:ext cx="316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8"/>
          <p:cNvSpPr/>
          <p:nvPr/>
        </p:nvSpPr>
        <p:spPr>
          <a:xfrm flipH="1">
            <a:off x="5076720" y="2492280"/>
            <a:ext cx="316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5003640" y="573408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60"/>
          <p:cNvSpPr/>
          <p:nvPr/>
        </p:nvSpPr>
        <p:spPr>
          <a:xfrm flipH="1">
            <a:off x="5076360" y="4292640"/>
            <a:ext cx="324036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00000" y="2998800"/>
          <a:ext cx="2303640" cy="316548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иц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Line 93"/>
          <p:cNvSpPr/>
          <p:nvPr/>
        </p:nvSpPr>
        <p:spPr>
          <a:xfrm>
            <a:off x="1258920" y="393372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4"/>
          <p:cNvSpPr/>
          <p:nvPr/>
        </p:nvSpPr>
        <p:spPr>
          <a:xfrm flipH="1">
            <a:off x="1403280" y="3860640"/>
            <a:ext cx="1440000" cy="18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енаправленное, обусловленное объективными законами воздействие на динамику в интересах развития или разрушения той социальной системы, к которой имеет отношение данны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вление конфликтами включает следующие виды деятельнос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57200" y="1197000"/>
          <a:ext cx="8229600" cy="5661000"/>
        </p:xfrm>
        <a:graphic>
          <a:graphicData uri="http://schemas.openxmlformats.org/drawingml/2006/table">
            <a:tbl>
              <a:tblPr/>
              <a:tblGrid>
                <a:gridCol w="442800"/>
                <a:gridCol w="2880000"/>
                <a:gridCol w="3097080"/>
                <a:gridCol w="18097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управл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з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и разв.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озирование, 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ьная – 92%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- 46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к- 5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ер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е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ада -20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ешение – совместная деятельность  участников, направленная на прекращение противодействия и решение проблемы, приведшей к столкновен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егулирование – принимает участие третья сторо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тухание  - истощение ресурсов, потеря мотива, переориентация мотив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транение – ликвидация основных структурных эле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растание в друго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тка Томаса-Килмен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274680" y="17604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4"/>
          <p:cNvSpPr/>
          <p:nvPr/>
        </p:nvSpPr>
        <p:spPr>
          <a:xfrm>
            <a:off x="250920" y="386064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ло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250920" y="198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2700360" y="2852640"/>
            <a:ext cx="208764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роми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219640" y="386064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посо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5219640" y="1989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11280" y="5373720"/>
            <a:ext cx="7345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11280" y="544500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6012000" y="5445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м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956720" y="1916280"/>
            <a:ext cx="0" cy="324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8028000" y="1557360"/>
            <a:ext cx="720720" cy="13669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66920"/>
              <a:gd name="textAreaBottom" fmla="*/ 1332000 h 1366920"/>
            </a:gdLst>
            <a:ahLst/>
            <a:rect l="textAreaLeft" t="textAreaTop" r="textAreaRight" b="textAreaBottom"/>
            <a:pathLst>
              <a:path w="21600" h="40957">
                <a:moveTo>
                  <a:pt x="3600" y="0"/>
                </a:moveTo>
                <a:arcTo wR="3600" hR="3600" stAng="16200000" swAng="-5400000"/>
                <a:lnTo>
                  <a:pt x="0" y="37357"/>
                </a:lnTo>
                <a:arcTo wR="3600" hR="3600" stAng="10800000" swAng="-5400000"/>
                <a:lnTo>
                  <a:pt x="18000" y="40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8028000" y="3860640"/>
            <a:ext cx="720720" cy="13464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40342">
                <a:moveTo>
                  <a:pt x="3600" y="0"/>
                </a:moveTo>
                <a:arcTo wR="3600" hR="3600" stAng="16200000" swAng="-5400000"/>
                <a:lnTo>
                  <a:pt x="0" y="36742"/>
                </a:lnTo>
                <a:arcTo wR="3600" hR="3600" stAng="10800000" swAng="-5400000"/>
                <a:lnTo>
                  <a:pt x="18000" y="4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и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 ее помощью можно наметить стратегию, этапы и способы разрешения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блема конфликт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инная причина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ействительные участни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линные потребности и опасения сторо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жличностные отношения участников до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ношение к конфликту лиц, не участвующих, но заинтересованных в положительном его разрешен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гресс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алобщ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разгневанный ребенок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ксимал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чун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тайный мст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ложный альтруист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хронический обвин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551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197000"/>
          <a:ext cx="9123480" cy="5661000"/>
        </p:xfrm>
        <a:graphic>
          <a:graphicData uri="http://schemas.openxmlformats.org/drawingml/2006/table">
            <a:tbl>
              <a:tblPr/>
              <a:tblGrid>
                <a:gridCol w="3111480"/>
                <a:gridCol w="6012000"/>
              </a:tblGrid>
              <a:tr h="4348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е 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квидация дефицита информации в конфликте; исключение из информационного поля ложной, искаженной информации; устранение слухов и т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общения между субъектами конфликтного взаимодействия и их сторонниками; обеспечение эффективного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-психолог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неформальными лидерами и микрогруппами, снижение социальной напряженности и укрепления социально-психологического климата в коллекти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е кадровых вопросов; использование методов поощрения и наказания; изменение условий взаимодействия сотрудников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Заголовок 2" descr=""/>
          <p:cNvPicPr/>
          <p:nvPr/>
        </p:nvPicPr>
        <p:blipFill>
          <a:blip r:embed="rId1"/>
          <a:stretch/>
        </p:blipFill>
        <p:spPr>
          <a:xfrm>
            <a:off x="249120" y="-189000"/>
            <a:ext cx="84502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реальной практике по управлению конфликтами важно учитывать предпосылки, формы и способы их разрешени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статочная зрелость конфли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требность субъектов конфликта в его разрешен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личие необходимых средств и ресурсов для разрешения конфли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6007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ничтожение или полное подчинение одной из сторон (уступка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гласование интересов и позиций конфликтующих сторон на новой основе (компромисс, консенсус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ное примирение конфликтующих сторон (уход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вод борьбы в русло сотрудничества по совместному преодолению противоречий (сотрудничество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дминистративный (увольнение, перевод на другую работу, решение суда и т. п.)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едагогический (беседа, убеждение, просьба, разъяснение и т. п.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горитм деятельности руководителя в процессе управления конфликтами зависит от многих факторов — содержания самого конфликта, условий его возникновения и развития и многих други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1974960"/>
          <a:ext cx="9144000" cy="4884480"/>
        </p:xfrm>
        <a:graphic>
          <a:graphicData uri="http://schemas.openxmlformats.org/drawingml/2006/table">
            <a:tbl>
              <a:tblPr/>
              <a:tblGrid>
                <a:gridCol w="858960"/>
                <a:gridCol w="3305160"/>
                <a:gridCol w="4979880"/>
              </a:tblGrid>
              <a:tr h="503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(методы)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причин возникновения конфли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, анализ результатов деятельности; беседа; изучение документов; биографический метод, то есть изучение биографических данных участников конфликта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раничение числа участ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лидерами в микрогруппах; перераспределение функциональных обязанностей; поощрение или наказание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ый анализ конфликта с помощью экспе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экспертов; привлечение медиатора, психолога, переговорный процесс (медиация)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ятие ре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е методы; педагогические мет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ивные мотив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иции сторо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в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роцессе управленческой деятельности по разрешению конфликтов и в выборе алгоритма такой деятельности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для руководител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учитывать следующие принципы управления конфлик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ивности и адекватности оценки конфлик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кретно-ситуационного подход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с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мократического воздействия, опоры на общественное мнени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мплексного использования способов и приемов воздейств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844640"/>
          <a:ext cx="9144000" cy="4822920"/>
        </p:xfrm>
        <a:graphic>
          <a:graphicData uri="http://schemas.openxmlformats.org/drawingml/2006/table">
            <a:tbl>
              <a:tblPr/>
              <a:tblGrid>
                <a:gridCol w="4908600"/>
                <a:gridCol w="4235400"/>
              </a:tblGrid>
              <a:tr h="395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ороннее суждение руководителя о подчиненных (как правило, только с точки зрения того, как они выполняют его указ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ет понять мотивы конфликтующих и оценить динамику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ы руководителя в конфликте как члена коллектива и как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связанные с субъективной оценкой предмета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емление как можно быстрее погасить конфли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часто приводящие к наказанию «правых» и «виноват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личностные отношения с конфликтующими (симпатии, антипатии дружба и т. 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проявляющиеся в предвзятом отношении к одному из участников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274680" y="85680"/>
            <a:ext cx="84121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44600" y="3352680"/>
            <a:ext cx="8169120" cy="18097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Формулы конфлик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520"/>
            <a:ext cx="850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огенов (КФГ)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оген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слова, действия (или отсутствие действий), которые могут привести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КФГ2 &gt; КФГ1(, КФГ3&gt; КФГ2 и т. д. (Закон эскалации конфликтогенов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91320" cy="1219320"/>
          </a:xfrm>
          <a:prstGeom prst="rect">
            <a:avLst/>
          </a:prstGeom>
          <a:ln w="0">
            <a:noFill/>
          </a:ln>
        </p:spPr>
      </p:pic>
      <p:sp>
        <p:nvSpPr>
          <p:cNvPr id="252" name="Скругленный прямоугольник 4"/>
          <p:cNvSpPr/>
          <p:nvPr/>
        </p:nvSpPr>
        <p:spPr>
          <a:xfrm>
            <a:off x="826920" y="2781360"/>
            <a:ext cx="7345440" cy="934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ФГ1      КФГ2      КФГ3     …      К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Прямая со стрелкой 6"/>
          <p:cNvCxnSpPr/>
          <p:nvPr/>
        </p:nvCxnSpPr>
        <p:spPr>
          <a:xfrm>
            <a:off x="2195280" y="3249360"/>
            <a:ext cx="432360" cy="1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54" name="Стрелка вправо 7"/>
          <p:cNvSpPr/>
          <p:nvPr/>
        </p:nvSpPr>
        <p:spPr>
          <a:xfrm>
            <a:off x="2268360" y="3176640"/>
            <a:ext cx="432000" cy="10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399564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74668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6754680" y="3141720"/>
            <a:ext cx="4813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1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употребляйте конфликтоге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2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отвечайте конфликтогеном на конфликтоге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отметить, что по наблюдениям специалистов, 80 % конфликтов возникает помимо желания их участников и по вышеприведенной формул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ной ситуации (КС) и инцидента (И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онфликтная ситуа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накопившиеся противоречия, связанные с деятельностью субъектов социального взаимодействия и создающие почву для реального противоборства между ни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нцидент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стечение обстоятельств, являющихся поводом для конфлик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  <p:sp>
        <p:nvSpPr>
          <p:cNvPr id="262" name="Скругленный прямоугольник 3"/>
          <p:cNvSpPr/>
          <p:nvPr/>
        </p:nvSpPr>
        <p:spPr>
          <a:xfrm>
            <a:off x="2268360" y="2781360"/>
            <a:ext cx="4391280" cy="718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 + И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4920" y="692280"/>
          <a:ext cx="9109080" cy="6165720"/>
        </p:xfrm>
        <a:graphic>
          <a:graphicData uri="http://schemas.openxmlformats.org/drawingml/2006/table">
            <a:tbl>
              <a:tblPr/>
              <a:tblGrid>
                <a:gridCol w="4216320"/>
                <a:gridCol w="4892760"/>
              </a:tblGrid>
              <a:tr h="453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конфликтной ситу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бросовестное исполн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трудовой дисциплины Брак в рабо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стиль 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ки в подборе и расстановке кадров Ошибки в организации контроля Просчеты в планировании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адекватное представление о конкретных ситуац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авильные оценки, суждения о действиях других субъектов социального взаимодействия Ошибки в выводах относительно конкретных ситу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о-психологические особенност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принятых в социальной группе правил взаимоотношений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ая профессиональн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к в работе Неспособность принять адекватное реш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Прямоугольник 7"/>
          <p:cNvSpPr/>
          <p:nvPr/>
        </p:nvSpPr>
        <p:spPr>
          <a:xfrm>
            <a:off x="2063880" y="874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конфликтных ситуа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нескольких конфликтных ситуаций (КС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&gt; 2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мма двух или более конфликтных ситуаций приводит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4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6"/>
          <p:cNvSpPr/>
          <p:nvPr/>
        </p:nvSpPr>
        <p:spPr>
          <a:xfrm>
            <a:off x="1692360" y="2637000"/>
            <a:ext cx="5400720" cy="720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1 + КС2 + ... + КС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такое отношение между субъектами социального взаимодействия, которое характеризуется их противоборством на основе противоположно направленных мотивов (потребностей, интересов, целей, идеалов, убеждений) или суждений (мнений, взглядов, оценок и т. п.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составу участников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утри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ду личностью и групп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группов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длительности и напряженност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рные быстротекущ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трые длитель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вял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быстр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61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 зависимости от сферы проявлен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оном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де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мей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социальных последстви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едме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еалистичные (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реалистичные (бес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ичи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стны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ичины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явления, события, факты, ситуации, которые предшествуют конфликту и, при определенных условиях деятельности субъектов социального взаимодействия, вызывают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экономические и полит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демограф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ндивиду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37:26Z</dcterms:created>
  <dc:creator>User</dc:creator>
  <dc:description/>
  <dc:language>en-US</dc:language>
  <cp:lastModifiedBy>Iren</cp:lastModifiedBy>
  <dcterms:modified xsi:type="dcterms:W3CDTF">2020-04-09T10:58:29Z</dcterms:modified>
  <cp:revision>20</cp:revision>
  <dc:subject/>
  <dc:title>Конфликты и пути их разрешения.</dc:title>
</cp:coreProperties>
</file>